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7.xml.rels" ContentType="application/vnd.openxmlformats-package.relationships+xml"/>
  <Override PartName="/ppt/notesSlides/notesSlide3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EEC0D-F02C-4CA2-AE46-116EC6832A49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C6D18-3566-41B7-8FA7-7E2AD154CA8D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440" y="0"/>
            <a:ext cx="1800" cy="144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2E013-01EC-4BEA-901D-4DE7589D7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3A402-1CDA-4F60-90A2-970FB94F9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C841A-39FB-47CF-B776-D7C370ECB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4B7A3-2DC4-4456-9132-D923D351C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AD795-6EC5-4D0F-B7B8-46F7358D3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91C36-5C34-4D8B-B995-DE33F82B5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B34F3-739A-4D74-B122-1E07B7CB8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224B3-242E-4886-B1AE-EA8769D6D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82729-F787-4F32-A327-6FF5F7C2F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42D26-B652-4950-B06E-DB18B43CA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A164C-850C-4DDD-AAEB-01E9A4C2E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C9E5F-0A4C-4C3B-9599-5A811FAA8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AE55D-4CB8-473D-84B5-B1342A67FC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403280" y="4292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000000"/>
                </a:solidFill>
                <a:latin typeface="Arial"/>
              </a:rPr>
              <a:t>il Liceo Scientifico a.s. 2014-2015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971640" y="1628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4000" spc="-1" strike="noStrike">
                <a:solidFill>
                  <a:srgbClr val="000000"/>
                </a:solidFill>
                <a:latin typeface="Arial"/>
              </a:rPr>
              <a:t>SEMINARIO DI APPROFONDIMENTO SUGLI ESAMI DI STATO  </a:t>
            </a:r>
            <a:br>
              <a:rPr sz="4000"/>
            </a:br>
            <a:r>
              <a:rPr b="1" i="1" lang="it-IT" sz="4000" spc="-1" strike="noStrike">
                <a:solidFill>
                  <a:srgbClr val="000000"/>
                </a:solidFill>
                <a:latin typeface="Arial"/>
              </a:rPr>
              <a:t>SECONDO CICLO</a:t>
            </a: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Forti perplessità da parte dei docent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Lettera al ministro promossa dalla Lista Cabrì (Domingo Paola – Luigi Tomasi – Elisabetta Lorenzetti): 250 firme in 1 settimana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Nessuna rispost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ulazione del 22 aprile 201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va N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so di fior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uzioni proposte dal MIUR contengono errori anche g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Corriere della se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Spiega Anna Brancaccio,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dirigente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del Miur </a:t>
            </a:r>
            <a:r>
              <a:rPr b="0" i="1" lang="it-IT" sz="3200" spc="-1" strike="noStrike">
                <a:solidFill>
                  <a:srgbClr val="000000"/>
                </a:solidFill>
                <a:latin typeface="Arial"/>
              </a:rPr>
              <a:t>(preside comandata MIUR)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: «Rispetto alla vecchia prova, in cui ai ragazzi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veniva data una funzione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e loro dovevano solo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calcolarne il risultato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, qui si dice loro: data questa situazione problematica trovate voi la soluzione, il modello matematico, l’equazione più adatta»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68360" y="62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etro queste «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venzion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» - spiega ancora Brancaccio - «è in gioco una nuova didattica della matematica incentrata non più solo sulle conoscenze ma anc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lle competenze intese come quello che uno sa fare con quello che s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».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596360" y="5589720"/>
            <a:ext cx="1008000" cy="934920"/>
          </a:xfrm>
          <a:custGeom>
            <a:avLst/>
            <a:gdLst>
              <a:gd name="textAreaLeft" fmla="*/ 60480 w 1008000"/>
              <a:gd name="textAreaRight" fmla="*/ 947520 w 1008000"/>
              <a:gd name="textAreaTop" fmla="*/ 60480 h 934920"/>
              <a:gd name="textAreaBottom" fmla="*/ 874440 h 934920"/>
            </a:gdLst>
            <a:ahLst/>
            <a:rect l="textAreaLeft" t="textAreaTop" r="textAreaRight" b="textAreaBottom"/>
            <a:pathLst>
              <a:path w="23288" h="21600">
                <a:moveTo>
                  <a:pt x="0" y="0"/>
                </a:moveTo>
                <a:lnTo>
                  <a:pt x="23288" y="0"/>
                </a:lnTo>
                <a:lnTo>
                  <a:pt x="23288" y="21600"/>
                </a:lnTo>
                <a:lnTo>
                  <a:pt x="0" y="21600"/>
                </a:lnTo>
                <a:close/>
              </a:path>
              <a:path fill="lightenLess" w="23288" h="21600">
                <a:moveTo>
                  <a:pt x="0" y="0"/>
                </a:moveTo>
                <a:lnTo>
                  <a:pt x="23288" y="0"/>
                </a:lnTo>
                <a:lnTo>
                  <a:pt x="21888" y="1400"/>
                </a:lnTo>
                <a:lnTo>
                  <a:pt x="1400" y="1400"/>
                </a:lnTo>
                <a:close/>
              </a:path>
              <a:path fill="darken" w="23288" h="21600">
                <a:moveTo>
                  <a:pt x="23288" y="0"/>
                </a:moveTo>
                <a:lnTo>
                  <a:pt x="23288" y="21600"/>
                </a:lnTo>
                <a:lnTo>
                  <a:pt x="21888" y="20200"/>
                </a:lnTo>
                <a:lnTo>
                  <a:pt x="21888" y="1400"/>
                </a:lnTo>
                <a:close/>
              </a:path>
              <a:path fill="darkenLess" w="23288" h="21600">
                <a:moveTo>
                  <a:pt x="232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888" y="20200"/>
                </a:lnTo>
                <a:close/>
              </a:path>
              <a:path fill="lighten" w="232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23288" h="21600">
                <a:moveTo>
                  <a:pt x="6117" y="3985"/>
                </a:moveTo>
                <a:lnTo>
                  <a:pt x="13115" y="3985"/>
                </a:lnTo>
                <a:lnTo>
                  <a:pt x="17171" y="7484"/>
                </a:lnTo>
                <a:lnTo>
                  <a:pt x="17171" y="17615"/>
                </a:lnTo>
                <a:lnTo>
                  <a:pt x="6117" y="17615"/>
                </a:lnTo>
                <a:close/>
              </a:path>
              <a:path fill="darken" w="23288" h="21600">
                <a:moveTo>
                  <a:pt x="13115" y="3985"/>
                </a:moveTo>
                <a:lnTo>
                  <a:pt x="17171" y="7484"/>
                </a:lnTo>
                <a:lnTo>
                  <a:pt x="13115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684360" y="49320"/>
            <a:ext cx="7956360" cy="68086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539640" y="836640"/>
            <a:ext cx="381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ventiamo” qualche cosa di nuovo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ami di Stato 201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 problemi, il secondo in linea con quanto precedentemente assegnato e 10 quesit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blema 1: piano tariffario telefon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rrisolvibile proprio perché si doveva fare riferimento ad una situazione reale e quindi discreta (successioni e non funzioni continue … vengono a cadere tutte le richieste relative alla continuità – derivabilità etc.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692360" y="5921280"/>
            <a:ext cx="1655640" cy="936720"/>
          </a:xfrm>
          <a:custGeom>
            <a:avLst/>
            <a:gdLst>
              <a:gd name="textAreaLeft" fmla="*/ 60480 w 1655640"/>
              <a:gd name="textAreaRight" fmla="*/ 1595160 w 1655640"/>
              <a:gd name="textAreaTop" fmla="*/ 60480 h 936720"/>
              <a:gd name="textAreaBottom" fmla="*/ 876240 h 936720"/>
            </a:gdLst>
            <a:ahLst/>
            <a:rect l="textAreaLeft" t="textAreaTop" r="textAreaRight" b="textAreaBottom"/>
            <a:pathLst>
              <a:path w="38171" h="21600">
                <a:moveTo>
                  <a:pt x="0" y="0"/>
                </a:moveTo>
                <a:lnTo>
                  <a:pt x="38171" y="0"/>
                </a:lnTo>
                <a:lnTo>
                  <a:pt x="38171" y="21600"/>
                </a:lnTo>
                <a:lnTo>
                  <a:pt x="0" y="21600"/>
                </a:lnTo>
                <a:close/>
              </a:path>
              <a:path fill="lightenLess" w="38171" h="21600">
                <a:moveTo>
                  <a:pt x="0" y="0"/>
                </a:moveTo>
                <a:lnTo>
                  <a:pt x="38171" y="0"/>
                </a:lnTo>
                <a:lnTo>
                  <a:pt x="36771" y="1400"/>
                </a:lnTo>
                <a:lnTo>
                  <a:pt x="1400" y="1400"/>
                </a:lnTo>
                <a:close/>
              </a:path>
              <a:path fill="darken" w="38171" h="21600">
                <a:moveTo>
                  <a:pt x="38171" y="0"/>
                </a:moveTo>
                <a:lnTo>
                  <a:pt x="38171" y="21600"/>
                </a:lnTo>
                <a:lnTo>
                  <a:pt x="36771" y="20200"/>
                </a:lnTo>
                <a:lnTo>
                  <a:pt x="36771" y="1400"/>
                </a:lnTo>
                <a:close/>
              </a:path>
              <a:path fill="darkenLess" w="38171" h="21600">
                <a:moveTo>
                  <a:pt x="381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771" y="20200"/>
                </a:lnTo>
                <a:close/>
              </a:path>
              <a:path fill="lighten" w="381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38171" h="21600">
                <a:moveTo>
                  <a:pt x="13559" y="3985"/>
                </a:moveTo>
                <a:lnTo>
                  <a:pt x="20557" y="3985"/>
                </a:lnTo>
                <a:lnTo>
                  <a:pt x="24613" y="7484"/>
                </a:lnTo>
                <a:lnTo>
                  <a:pt x="24613" y="17615"/>
                </a:lnTo>
                <a:lnTo>
                  <a:pt x="13559" y="17615"/>
                </a:lnTo>
                <a:close/>
              </a:path>
              <a:path fill="darken" w="38171" h="21600">
                <a:moveTo>
                  <a:pt x="20557" y="3985"/>
                </a:moveTo>
                <a:lnTo>
                  <a:pt x="24613" y="7484"/>
                </a:lnTo>
                <a:lnTo>
                  <a:pt x="20557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948360" y="5805360"/>
            <a:ext cx="1656000" cy="1052640"/>
          </a:xfrm>
          <a:custGeom>
            <a:avLst/>
            <a:gdLst>
              <a:gd name="textAreaLeft" fmla="*/ 68040 w 1656000"/>
              <a:gd name="textAreaRight" fmla="*/ 1587960 w 1656000"/>
              <a:gd name="textAreaTop" fmla="*/ 68040 h 1052640"/>
              <a:gd name="textAreaBottom" fmla="*/ 984600 h 1052640"/>
            </a:gdLst>
            <a:ahLst/>
            <a:rect l="textAreaLeft" t="textAreaTop" r="textAreaRight" b="textAreaBottom"/>
            <a:pathLst>
              <a:path w="33977" h="21600">
                <a:moveTo>
                  <a:pt x="0" y="0"/>
                </a:moveTo>
                <a:lnTo>
                  <a:pt x="33977" y="0"/>
                </a:lnTo>
                <a:lnTo>
                  <a:pt x="33977" y="21600"/>
                </a:lnTo>
                <a:lnTo>
                  <a:pt x="0" y="21600"/>
                </a:lnTo>
                <a:close/>
              </a:path>
              <a:path fill="lightenLess" w="33977" h="21600">
                <a:moveTo>
                  <a:pt x="0" y="0"/>
                </a:moveTo>
                <a:lnTo>
                  <a:pt x="33977" y="0"/>
                </a:lnTo>
                <a:lnTo>
                  <a:pt x="32577" y="1400"/>
                </a:lnTo>
                <a:lnTo>
                  <a:pt x="1400" y="1400"/>
                </a:lnTo>
                <a:close/>
              </a:path>
              <a:path fill="darken" w="33977" h="21600">
                <a:moveTo>
                  <a:pt x="33977" y="0"/>
                </a:moveTo>
                <a:lnTo>
                  <a:pt x="33977" y="21600"/>
                </a:lnTo>
                <a:lnTo>
                  <a:pt x="32577" y="20200"/>
                </a:lnTo>
                <a:lnTo>
                  <a:pt x="32577" y="1400"/>
                </a:lnTo>
                <a:close/>
              </a:path>
              <a:path fill="darkenLess" w="33977" h="21600">
                <a:moveTo>
                  <a:pt x="339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77" y="20200"/>
                </a:lnTo>
                <a:close/>
              </a:path>
              <a:path fill="lighten" w="339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33977" h="21600">
                <a:moveTo>
                  <a:pt x="11461" y="3985"/>
                </a:moveTo>
                <a:lnTo>
                  <a:pt x="18459" y="3985"/>
                </a:lnTo>
                <a:lnTo>
                  <a:pt x="22515" y="7484"/>
                </a:lnTo>
                <a:lnTo>
                  <a:pt x="22515" y="17615"/>
                </a:lnTo>
                <a:lnTo>
                  <a:pt x="11461" y="17615"/>
                </a:lnTo>
                <a:close/>
              </a:path>
              <a:path fill="darken" w="33977" h="21600">
                <a:moveTo>
                  <a:pt x="18459" y="3985"/>
                </a:moveTo>
                <a:lnTo>
                  <a:pt x="22515" y="7484"/>
                </a:lnTo>
                <a:lnTo>
                  <a:pt x="18459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55640" y="61657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s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084720" y="5950080"/>
            <a:ext cx="10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blema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692360" y="5921280"/>
            <a:ext cx="1655640" cy="936720"/>
          </a:xfrm>
          <a:custGeom>
            <a:avLst/>
            <a:gdLst>
              <a:gd name="textAreaLeft" fmla="*/ 60480 w 1655640"/>
              <a:gd name="textAreaRight" fmla="*/ 1595160 w 1655640"/>
              <a:gd name="textAreaTop" fmla="*/ 60480 h 936720"/>
              <a:gd name="textAreaBottom" fmla="*/ 876240 h 936720"/>
            </a:gdLst>
            <a:ahLst/>
            <a:rect l="textAreaLeft" t="textAreaTop" r="textAreaRight" b="textAreaBottom"/>
            <a:pathLst>
              <a:path w="38171" h="21600">
                <a:moveTo>
                  <a:pt x="0" y="0"/>
                </a:moveTo>
                <a:lnTo>
                  <a:pt x="38171" y="0"/>
                </a:lnTo>
                <a:lnTo>
                  <a:pt x="38171" y="21600"/>
                </a:lnTo>
                <a:lnTo>
                  <a:pt x="0" y="21600"/>
                </a:lnTo>
                <a:close/>
              </a:path>
              <a:path fill="lightenLess" w="38171" h="21600">
                <a:moveTo>
                  <a:pt x="0" y="0"/>
                </a:moveTo>
                <a:lnTo>
                  <a:pt x="38171" y="0"/>
                </a:lnTo>
                <a:lnTo>
                  <a:pt x="36771" y="1400"/>
                </a:lnTo>
                <a:lnTo>
                  <a:pt x="1400" y="1400"/>
                </a:lnTo>
                <a:close/>
              </a:path>
              <a:path fill="darken" w="38171" h="21600">
                <a:moveTo>
                  <a:pt x="38171" y="0"/>
                </a:moveTo>
                <a:lnTo>
                  <a:pt x="38171" y="21600"/>
                </a:lnTo>
                <a:lnTo>
                  <a:pt x="36771" y="20200"/>
                </a:lnTo>
                <a:lnTo>
                  <a:pt x="36771" y="1400"/>
                </a:lnTo>
                <a:close/>
              </a:path>
              <a:path fill="darkenLess" w="38171" h="21600">
                <a:moveTo>
                  <a:pt x="381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771" y="20200"/>
                </a:lnTo>
                <a:close/>
              </a:path>
              <a:path fill="lighten" w="381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38171" h="21600">
                <a:moveTo>
                  <a:pt x="13559" y="3985"/>
                </a:moveTo>
                <a:lnTo>
                  <a:pt x="20557" y="3985"/>
                </a:lnTo>
                <a:lnTo>
                  <a:pt x="24613" y="7484"/>
                </a:lnTo>
                <a:lnTo>
                  <a:pt x="24613" y="17615"/>
                </a:lnTo>
                <a:lnTo>
                  <a:pt x="13559" y="17615"/>
                </a:lnTo>
                <a:close/>
              </a:path>
              <a:path fill="darken" w="38171" h="21600">
                <a:moveTo>
                  <a:pt x="20557" y="3985"/>
                </a:moveTo>
                <a:lnTo>
                  <a:pt x="24613" y="7484"/>
                </a:lnTo>
                <a:lnTo>
                  <a:pt x="20557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5640" y="61657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s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948360" y="5805360"/>
            <a:ext cx="1656000" cy="1052640"/>
          </a:xfrm>
          <a:custGeom>
            <a:avLst/>
            <a:gdLst>
              <a:gd name="textAreaLeft" fmla="*/ 68040 w 1656000"/>
              <a:gd name="textAreaRight" fmla="*/ 1587960 w 1656000"/>
              <a:gd name="textAreaTop" fmla="*/ 68040 h 1052640"/>
              <a:gd name="textAreaBottom" fmla="*/ 984600 h 1052640"/>
            </a:gdLst>
            <a:ahLst/>
            <a:rect l="textAreaLeft" t="textAreaTop" r="textAreaRight" b="textAreaBottom"/>
            <a:pathLst>
              <a:path w="33977" h="21600">
                <a:moveTo>
                  <a:pt x="0" y="0"/>
                </a:moveTo>
                <a:lnTo>
                  <a:pt x="33977" y="0"/>
                </a:lnTo>
                <a:lnTo>
                  <a:pt x="33977" y="21600"/>
                </a:lnTo>
                <a:lnTo>
                  <a:pt x="0" y="21600"/>
                </a:lnTo>
                <a:close/>
              </a:path>
              <a:path fill="lightenLess" w="33977" h="21600">
                <a:moveTo>
                  <a:pt x="0" y="0"/>
                </a:moveTo>
                <a:lnTo>
                  <a:pt x="33977" y="0"/>
                </a:lnTo>
                <a:lnTo>
                  <a:pt x="32577" y="1400"/>
                </a:lnTo>
                <a:lnTo>
                  <a:pt x="1400" y="1400"/>
                </a:lnTo>
                <a:close/>
              </a:path>
              <a:path fill="darken" w="33977" h="21600">
                <a:moveTo>
                  <a:pt x="33977" y="0"/>
                </a:moveTo>
                <a:lnTo>
                  <a:pt x="33977" y="21600"/>
                </a:lnTo>
                <a:lnTo>
                  <a:pt x="32577" y="20200"/>
                </a:lnTo>
                <a:lnTo>
                  <a:pt x="32577" y="1400"/>
                </a:lnTo>
                <a:close/>
              </a:path>
              <a:path fill="darkenLess" w="33977" h="21600">
                <a:moveTo>
                  <a:pt x="339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77" y="20200"/>
                </a:lnTo>
                <a:close/>
              </a:path>
              <a:path fill="lighten" w="339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33977" h="21600">
                <a:moveTo>
                  <a:pt x="11461" y="3985"/>
                </a:moveTo>
                <a:lnTo>
                  <a:pt x="18459" y="3985"/>
                </a:lnTo>
                <a:lnTo>
                  <a:pt x="22515" y="7484"/>
                </a:lnTo>
                <a:lnTo>
                  <a:pt x="22515" y="17615"/>
                </a:lnTo>
                <a:lnTo>
                  <a:pt x="11461" y="17615"/>
                </a:lnTo>
                <a:close/>
              </a:path>
              <a:path fill="darken" w="33977" h="21600">
                <a:moveTo>
                  <a:pt x="18459" y="3985"/>
                </a:moveTo>
                <a:lnTo>
                  <a:pt x="22515" y="7484"/>
                </a:lnTo>
                <a:lnTo>
                  <a:pt x="18459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084720" y="5950080"/>
            <a:ext cx="10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blema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692360" y="5921280"/>
            <a:ext cx="1655640" cy="936720"/>
          </a:xfrm>
          <a:custGeom>
            <a:avLst/>
            <a:gdLst>
              <a:gd name="textAreaLeft" fmla="*/ 60480 w 1655640"/>
              <a:gd name="textAreaRight" fmla="*/ 1595160 w 1655640"/>
              <a:gd name="textAreaTop" fmla="*/ 60480 h 936720"/>
              <a:gd name="textAreaBottom" fmla="*/ 876240 h 936720"/>
            </a:gdLst>
            <a:ahLst/>
            <a:rect l="textAreaLeft" t="textAreaTop" r="textAreaRight" b="textAreaBottom"/>
            <a:pathLst>
              <a:path w="38171" h="21600">
                <a:moveTo>
                  <a:pt x="0" y="0"/>
                </a:moveTo>
                <a:lnTo>
                  <a:pt x="38171" y="0"/>
                </a:lnTo>
                <a:lnTo>
                  <a:pt x="38171" y="21600"/>
                </a:lnTo>
                <a:lnTo>
                  <a:pt x="0" y="21600"/>
                </a:lnTo>
                <a:close/>
              </a:path>
              <a:path fill="lightenLess" w="38171" h="21600">
                <a:moveTo>
                  <a:pt x="0" y="0"/>
                </a:moveTo>
                <a:lnTo>
                  <a:pt x="38171" y="0"/>
                </a:lnTo>
                <a:lnTo>
                  <a:pt x="36771" y="1400"/>
                </a:lnTo>
                <a:lnTo>
                  <a:pt x="1400" y="1400"/>
                </a:lnTo>
                <a:close/>
              </a:path>
              <a:path fill="darken" w="38171" h="21600">
                <a:moveTo>
                  <a:pt x="38171" y="0"/>
                </a:moveTo>
                <a:lnTo>
                  <a:pt x="38171" y="21600"/>
                </a:lnTo>
                <a:lnTo>
                  <a:pt x="36771" y="20200"/>
                </a:lnTo>
                <a:lnTo>
                  <a:pt x="36771" y="1400"/>
                </a:lnTo>
                <a:close/>
              </a:path>
              <a:path fill="darkenLess" w="38171" h="21600">
                <a:moveTo>
                  <a:pt x="381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771" y="20200"/>
                </a:lnTo>
                <a:close/>
              </a:path>
              <a:path fill="lighten" w="381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38171" h="21600">
                <a:moveTo>
                  <a:pt x="13559" y="3985"/>
                </a:moveTo>
                <a:lnTo>
                  <a:pt x="20557" y="3985"/>
                </a:lnTo>
                <a:lnTo>
                  <a:pt x="24613" y="7484"/>
                </a:lnTo>
                <a:lnTo>
                  <a:pt x="24613" y="17615"/>
                </a:lnTo>
                <a:lnTo>
                  <a:pt x="13559" y="17615"/>
                </a:lnTo>
                <a:close/>
              </a:path>
              <a:path fill="darken" w="38171" h="21600">
                <a:moveTo>
                  <a:pt x="20557" y="3985"/>
                </a:moveTo>
                <a:lnTo>
                  <a:pt x="24613" y="7484"/>
                </a:lnTo>
                <a:lnTo>
                  <a:pt x="20557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55640" y="61657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s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948360" y="5805360"/>
            <a:ext cx="1656000" cy="1052640"/>
          </a:xfrm>
          <a:custGeom>
            <a:avLst/>
            <a:gdLst>
              <a:gd name="textAreaLeft" fmla="*/ 68040 w 1656000"/>
              <a:gd name="textAreaRight" fmla="*/ 1587960 w 1656000"/>
              <a:gd name="textAreaTop" fmla="*/ 68040 h 1052640"/>
              <a:gd name="textAreaBottom" fmla="*/ 984600 h 1052640"/>
            </a:gdLst>
            <a:ahLst/>
            <a:rect l="textAreaLeft" t="textAreaTop" r="textAreaRight" b="textAreaBottom"/>
            <a:pathLst>
              <a:path w="33977" h="21600">
                <a:moveTo>
                  <a:pt x="0" y="0"/>
                </a:moveTo>
                <a:lnTo>
                  <a:pt x="33977" y="0"/>
                </a:lnTo>
                <a:lnTo>
                  <a:pt x="33977" y="21600"/>
                </a:lnTo>
                <a:lnTo>
                  <a:pt x="0" y="21600"/>
                </a:lnTo>
                <a:close/>
              </a:path>
              <a:path fill="lightenLess" w="33977" h="21600">
                <a:moveTo>
                  <a:pt x="0" y="0"/>
                </a:moveTo>
                <a:lnTo>
                  <a:pt x="33977" y="0"/>
                </a:lnTo>
                <a:lnTo>
                  <a:pt x="32577" y="1400"/>
                </a:lnTo>
                <a:lnTo>
                  <a:pt x="1400" y="1400"/>
                </a:lnTo>
                <a:close/>
              </a:path>
              <a:path fill="darken" w="33977" h="21600">
                <a:moveTo>
                  <a:pt x="33977" y="0"/>
                </a:moveTo>
                <a:lnTo>
                  <a:pt x="33977" y="21600"/>
                </a:lnTo>
                <a:lnTo>
                  <a:pt x="32577" y="20200"/>
                </a:lnTo>
                <a:lnTo>
                  <a:pt x="32577" y="1400"/>
                </a:lnTo>
                <a:close/>
              </a:path>
              <a:path fill="darkenLess" w="33977" h="21600">
                <a:moveTo>
                  <a:pt x="339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77" y="20200"/>
                </a:lnTo>
                <a:close/>
              </a:path>
              <a:path fill="lighten" w="339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33977" h="21600">
                <a:moveTo>
                  <a:pt x="11461" y="3985"/>
                </a:moveTo>
                <a:lnTo>
                  <a:pt x="18459" y="3985"/>
                </a:lnTo>
                <a:lnTo>
                  <a:pt x="22515" y="7484"/>
                </a:lnTo>
                <a:lnTo>
                  <a:pt x="22515" y="17615"/>
                </a:lnTo>
                <a:lnTo>
                  <a:pt x="11461" y="17615"/>
                </a:lnTo>
                <a:close/>
              </a:path>
              <a:path fill="darken" w="33977" h="21600">
                <a:moveTo>
                  <a:pt x="18459" y="3985"/>
                </a:moveTo>
                <a:lnTo>
                  <a:pt x="22515" y="7484"/>
                </a:lnTo>
                <a:lnTo>
                  <a:pt x="18459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084720" y="5950080"/>
            <a:ext cx="10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blema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755640" y="5921280"/>
            <a:ext cx="2592360" cy="936720"/>
            <a:chOff x="755640" y="5921280"/>
            <a:chExt cx="2592360" cy="936720"/>
          </a:xfrm>
        </p:grpSpPr>
        <p:sp>
          <p:nvSpPr>
            <p:cNvPr id="86" name=""/>
            <p:cNvSpPr/>
            <p:nvPr/>
          </p:nvSpPr>
          <p:spPr>
            <a:xfrm>
              <a:off x="1692360" y="5921280"/>
              <a:ext cx="1655640" cy="936720"/>
            </a:xfrm>
            <a:custGeom>
              <a:avLst/>
              <a:gdLst>
                <a:gd name="textAreaLeft" fmla="*/ 60480 w 1655640"/>
                <a:gd name="textAreaRight" fmla="*/ 1595160 w 1655640"/>
                <a:gd name="textAreaTop" fmla="*/ 60480 h 936720"/>
                <a:gd name="textAreaBottom" fmla="*/ 876240 h 936720"/>
              </a:gdLst>
              <a:ahLst/>
              <a:rect l="textAreaLeft" t="textAreaTop" r="textAreaRight" b="textAreaBottom"/>
              <a:pathLst>
                <a:path w="38171" h="21600">
                  <a:moveTo>
                    <a:pt x="0" y="0"/>
                  </a:moveTo>
                  <a:lnTo>
                    <a:pt x="38171" y="0"/>
                  </a:lnTo>
                  <a:lnTo>
                    <a:pt x="38171" y="21600"/>
                  </a:lnTo>
                  <a:lnTo>
                    <a:pt x="0" y="21600"/>
                  </a:lnTo>
                  <a:close/>
                </a:path>
                <a:path fill="lightenLess" w="38171" h="21600">
                  <a:moveTo>
                    <a:pt x="0" y="0"/>
                  </a:moveTo>
                  <a:lnTo>
                    <a:pt x="38171" y="0"/>
                  </a:lnTo>
                  <a:lnTo>
                    <a:pt x="36771" y="1400"/>
                  </a:lnTo>
                  <a:lnTo>
                    <a:pt x="1400" y="1400"/>
                  </a:lnTo>
                  <a:close/>
                </a:path>
                <a:path fill="darken" w="38171" h="21600">
                  <a:moveTo>
                    <a:pt x="38171" y="0"/>
                  </a:moveTo>
                  <a:lnTo>
                    <a:pt x="38171" y="21600"/>
                  </a:lnTo>
                  <a:lnTo>
                    <a:pt x="36771" y="20200"/>
                  </a:lnTo>
                  <a:lnTo>
                    <a:pt x="36771" y="1400"/>
                  </a:lnTo>
                  <a:close/>
                </a:path>
                <a:path fill="darkenLess" w="38171" h="21600">
                  <a:moveTo>
                    <a:pt x="38171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6771" y="20200"/>
                  </a:lnTo>
                  <a:close/>
                </a:path>
                <a:path fill="lighten" w="38171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Less" w="38171" h="21600">
                  <a:moveTo>
                    <a:pt x="13559" y="3985"/>
                  </a:moveTo>
                  <a:lnTo>
                    <a:pt x="20557" y="3985"/>
                  </a:lnTo>
                  <a:lnTo>
                    <a:pt x="24613" y="7484"/>
                  </a:lnTo>
                  <a:lnTo>
                    <a:pt x="24613" y="17615"/>
                  </a:lnTo>
                  <a:lnTo>
                    <a:pt x="13559" y="17615"/>
                  </a:lnTo>
                  <a:close/>
                </a:path>
                <a:path fill="darken" w="38171" h="21600">
                  <a:moveTo>
                    <a:pt x="20557" y="3985"/>
                  </a:moveTo>
                  <a:lnTo>
                    <a:pt x="24613" y="7484"/>
                  </a:lnTo>
                  <a:lnTo>
                    <a:pt x="20557" y="7484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640" y="6165720"/>
              <a:ext cx="129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es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" name=""/>
          <p:cNvGrpSpPr/>
          <p:nvPr/>
        </p:nvGrpSpPr>
        <p:grpSpPr>
          <a:xfrm>
            <a:off x="6084720" y="5805360"/>
            <a:ext cx="2519640" cy="1052640"/>
            <a:chOff x="6084720" y="5805360"/>
            <a:chExt cx="2519640" cy="1052640"/>
          </a:xfrm>
        </p:grpSpPr>
        <p:sp>
          <p:nvSpPr>
            <p:cNvPr id="89" name=""/>
            <p:cNvSpPr/>
            <p:nvPr/>
          </p:nvSpPr>
          <p:spPr>
            <a:xfrm>
              <a:off x="6948360" y="5805360"/>
              <a:ext cx="1656000" cy="1052640"/>
            </a:xfrm>
            <a:custGeom>
              <a:avLst/>
              <a:gdLst>
                <a:gd name="textAreaLeft" fmla="*/ 68040 w 1656000"/>
                <a:gd name="textAreaRight" fmla="*/ 1587960 w 1656000"/>
                <a:gd name="textAreaTop" fmla="*/ 68040 h 1052640"/>
                <a:gd name="textAreaBottom" fmla="*/ 984600 h 1052640"/>
              </a:gdLst>
              <a:ahLst/>
              <a:rect l="textAreaLeft" t="textAreaTop" r="textAreaRight" b="textAreaBottom"/>
              <a:pathLst>
                <a:path w="33977" h="21600">
                  <a:moveTo>
                    <a:pt x="0" y="0"/>
                  </a:moveTo>
                  <a:lnTo>
                    <a:pt x="33977" y="0"/>
                  </a:lnTo>
                  <a:lnTo>
                    <a:pt x="33977" y="21600"/>
                  </a:lnTo>
                  <a:lnTo>
                    <a:pt x="0" y="21600"/>
                  </a:lnTo>
                  <a:close/>
                </a:path>
                <a:path fill="lightenLess" w="33977" h="21600">
                  <a:moveTo>
                    <a:pt x="0" y="0"/>
                  </a:moveTo>
                  <a:lnTo>
                    <a:pt x="33977" y="0"/>
                  </a:lnTo>
                  <a:lnTo>
                    <a:pt x="32577" y="1400"/>
                  </a:lnTo>
                  <a:lnTo>
                    <a:pt x="1400" y="1400"/>
                  </a:lnTo>
                  <a:close/>
                </a:path>
                <a:path fill="darken" w="33977" h="21600">
                  <a:moveTo>
                    <a:pt x="33977" y="0"/>
                  </a:moveTo>
                  <a:lnTo>
                    <a:pt x="33977" y="21600"/>
                  </a:lnTo>
                  <a:lnTo>
                    <a:pt x="32577" y="20200"/>
                  </a:lnTo>
                  <a:lnTo>
                    <a:pt x="32577" y="1400"/>
                  </a:lnTo>
                  <a:close/>
                </a:path>
                <a:path fill="darkenLess" w="33977" h="21600">
                  <a:moveTo>
                    <a:pt x="33977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2577" y="20200"/>
                  </a:lnTo>
                  <a:close/>
                </a:path>
                <a:path fill="lighten" w="33977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Less" w="33977" h="21600">
                  <a:moveTo>
                    <a:pt x="11461" y="3985"/>
                  </a:moveTo>
                  <a:lnTo>
                    <a:pt x="18459" y="3985"/>
                  </a:lnTo>
                  <a:lnTo>
                    <a:pt x="22515" y="7484"/>
                  </a:lnTo>
                  <a:lnTo>
                    <a:pt x="22515" y="17615"/>
                  </a:lnTo>
                  <a:lnTo>
                    <a:pt x="11461" y="17615"/>
                  </a:lnTo>
                  <a:close/>
                </a:path>
                <a:path fill="darken" w="33977" h="21600">
                  <a:moveTo>
                    <a:pt x="18459" y="3985"/>
                  </a:moveTo>
                  <a:lnTo>
                    <a:pt x="22515" y="7484"/>
                  </a:lnTo>
                  <a:lnTo>
                    <a:pt x="18459" y="7484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084720" y="5950080"/>
              <a:ext cx="1008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roblema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ami di Stato 201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Contestualizzazi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Abolizione dell’indagine Matmedia (attiva dal 200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ami di Stato 201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 problemi, il secondo in linea con quanto precedentemente assegnato e 10 quesiti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227640" y="5084640"/>
            <a:ext cx="1476360" cy="908280"/>
          </a:xfrm>
          <a:custGeom>
            <a:avLst/>
            <a:gdLst>
              <a:gd name="textAreaLeft" fmla="*/ 58680 w 1476360"/>
              <a:gd name="textAreaRight" fmla="*/ 1417680 w 1476360"/>
              <a:gd name="textAreaTop" fmla="*/ 58680 h 908280"/>
              <a:gd name="textAreaBottom" fmla="*/ 849600 h 908280"/>
            </a:gdLst>
            <a:ahLst/>
            <a:rect l="textAreaLeft" t="textAreaTop" r="textAreaRight" b="textAreaBottom"/>
            <a:pathLst>
              <a:path w="35104" h="21600">
                <a:moveTo>
                  <a:pt x="0" y="0"/>
                </a:moveTo>
                <a:lnTo>
                  <a:pt x="35104" y="0"/>
                </a:lnTo>
                <a:lnTo>
                  <a:pt x="35104" y="21600"/>
                </a:lnTo>
                <a:lnTo>
                  <a:pt x="0" y="21600"/>
                </a:lnTo>
                <a:close/>
              </a:path>
              <a:path fill="lightenLess" w="35104" h="21600">
                <a:moveTo>
                  <a:pt x="0" y="0"/>
                </a:moveTo>
                <a:lnTo>
                  <a:pt x="35104" y="0"/>
                </a:lnTo>
                <a:lnTo>
                  <a:pt x="33704" y="1400"/>
                </a:lnTo>
                <a:lnTo>
                  <a:pt x="1400" y="1400"/>
                </a:lnTo>
                <a:close/>
              </a:path>
              <a:path fill="darken" w="35104" h="21600">
                <a:moveTo>
                  <a:pt x="35104" y="0"/>
                </a:moveTo>
                <a:lnTo>
                  <a:pt x="35104" y="21600"/>
                </a:lnTo>
                <a:lnTo>
                  <a:pt x="33704" y="20200"/>
                </a:lnTo>
                <a:lnTo>
                  <a:pt x="33704" y="1400"/>
                </a:lnTo>
                <a:close/>
              </a:path>
              <a:path fill="darkenLess" w="35104" h="21600">
                <a:moveTo>
                  <a:pt x="351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4" y="20200"/>
                </a:lnTo>
                <a:close/>
              </a:path>
              <a:path fill="lighten" w="351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35104" h="21600">
                <a:moveTo>
                  <a:pt x="12025" y="3985"/>
                </a:moveTo>
                <a:lnTo>
                  <a:pt x="19023" y="3985"/>
                </a:lnTo>
                <a:lnTo>
                  <a:pt x="23079" y="7484"/>
                </a:lnTo>
                <a:lnTo>
                  <a:pt x="23079" y="17615"/>
                </a:lnTo>
                <a:lnTo>
                  <a:pt x="12025" y="17615"/>
                </a:lnTo>
                <a:close/>
              </a:path>
              <a:path fill="darken" w="35104" h="21600">
                <a:moveTo>
                  <a:pt x="19023" y="3985"/>
                </a:moveTo>
                <a:lnTo>
                  <a:pt x="23079" y="7484"/>
                </a:lnTo>
                <a:lnTo>
                  <a:pt x="19023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ami di Stato 201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blema 1: piano tariffario telefon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rrisolvibile proprio perché si doveva fare riferimento ad una situazione reale e quindi discreta (successioni e non funzioni continue … vengono a cadere tutte le richieste relative alla continuità – derivabilità etc.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164360" y="5084640"/>
            <a:ext cx="1511280" cy="1224000"/>
          </a:xfrm>
          <a:custGeom>
            <a:avLst/>
            <a:gdLst>
              <a:gd name="textAreaLeft" fmla="*/ 79200 w 1511280"/>
              <a:gd name="textAreaRight" fmla="*/ 1432080 w 1511280"/>
              <a:gd name="textAreaTop" fmla="*/ 79200 h 1224000"/>
              <a:gd name="textAreaBottom" fmla="*/ 1144800 h 1224000"/>
            </a:gdLst>
            <a:ahLst/>
            <a:rect l="textAreaLeft" t="textAreaTop" r="textAreaRight" b="textAreaBottom"/>
            <a:pathLst>
              <a:path w="26668" h="21600">
                <a:moveTo>
                  <a:pt x="0" y="0"/>
                </a:moveTo>
                <a:lnTo>
                  <a:pt x="26668" y="0"/>
                </a:lnTo>
                <a:lnTo>
                  <a:pt x="26668" y="21600"/>
                </a:lnTo>
                <a:lnTo>
                  <a:pt x="0" y="21600"/>
                </a:lnTo>
                <a:close/>
              </a:path>
              <a:path fill="lightenLess" w="26668" h="21600">
                <a:moveTo>
                  <a:pt x="0" y="0"/>
                </a:moveTo>
                <a:lnTo>
                  <a:pt x="26668" y="0"/>
                </a:lnTo>
                <a:lnTo>
                  <a:pt x="25268" y="1400"/>
                </a:lnTo>
                <a:lnTo>
                  <a:pt x="1400" y="1400"/>
                </a:lnTo>
                <a:close/>
              </a:path>
              <a:path fill="darken" w="26668" h="21600">
                <a:moveTo>
                  <a:pt x="26668" y="0"/>
                </a:moveTo>
                <a:lnTo>
                  <a:pt x="26668" y="21600"/>
                </a:lnTo>
                <a:lnTo>
                  <a:pt x="25268" y="20200"/>
                </a:lnTo>
                <a:lnTo>
                  <a:pt x="25268" y="1400"/>
                </a:lnTo>
                <a:close/>
              </a:path>
              <a:path fill="darkenLess" w="26668" h="21600">
                <a:moveTo>
                  <a:pt x="266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268" y="20200"/>
                </a:lnTo>
                <a:close/>
              </a:path>
              <a:path fill="lighten" w="266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26668" h="21600">
                <a:moveTo>
                  <a:pt x="7807" y="3985"/>
                </a:moveTo>
                <a:lnTo>
                  <a:pt x="14805" y="3985"/>
                </a:lnTo>
                <a:lnTo>
                  <a:pt x="18861" y="7484"/>
                </a:lnTo>
                <a:lnTo>
                  <a:pt x="18861" y="17615"/>
                </a:lnTo>
                <a:lnTo>
                  <a:pt x="7807" y="17615"/>
                </a:lnTo>
                <a:close/>
              </a:path>
              <a:path fill="darken" w="26668" h="21600">
                <a:moveTo>
                  <a:pt x="14805" y="3985"/>
                </a:moveTo>
                <a:lnTo>
                  <a:pt x="18861" y="7484"/>
                </a:lnTo>
                <a:lnTo>
                  <a:pt x="14805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no scolastico 2015 - 201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sa aspettarci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050920" y="0"/>
            <a:ext cx="5040360" cy="64533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87480" y="496800"/>
            <a:ext cx="1892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Arial"/>
              </a:rPr>
              <a:t>ESAME DI MATEMAT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imulazione del 10 dicembre 201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 porta scarpe da viagg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 ghiacc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a Ministeriale del 23/11/2015 simulazione del 10 dicembre 2015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La prova è strutturata in due problemi, a scelta alternativa dello studente, e in dieci quesiti, di cui lo studente dovrà svolgerne cinque; …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aranno assegnati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roblemi di tipo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contestualizzato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n cui lo studente dovrà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individuare la strategia di soluzion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entre i quesiti verteranno su temi matematici di carattere generale”.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e prove contestualizzate sono un obbligo di legg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lti docenti chiedono se è vero che la prova d’esame contestualizzata o autentica sia un obbligo di legg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La risposta è no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 esiste alcun articolo di legge ove se ne parl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68360" y="549360"/>
            <a:ext cx="8229600" cy="56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osa significa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problemi di tipo contestualizzato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in cui lo studente dovrà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individuare la strategia di soluzione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entre i quesiti verteranno su temi matematici di carattere generale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gni problema – quesito matematico richiede l’individuazione di una strategia risolutiv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Cosa dicono le I.N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’esplicitazione dei nuclei fondanti e dei contenuti imprescindibili (sintetizzati nelle tavole di apprendiment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libertà di poter progettare percorsi scolastici innovativi e di qualità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nza imposizioni di metodi o di ricette didattich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395280" y="47628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Le Indicazioni non dettano alcun modello didattico-pedagogico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 … valorizzare il ruolo dei docenti e delle autonomie scolastiche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nella loro libera progettazione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1" lang="it-IT" sz="3200" spc="-1" strike="noStrike">
                <a:solidFill>
                  <a:srgbClr val="ff0000"/>
                </a:solidFill>
                <a:latin typeface="Arial"/>
              </a:rPr>
              <a:t>negare diritto di cittadinanza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, in questo delicatissimo ambito, </a:t>
            </a:r>
            <a:r>
              <a:rPr b="1" lang="it-IT" sz="3200" spc="-1" strike="noStrike">
                <a:solidFill>
                  <a:srgbClr val="ff0000"/>
                </a:solidFill>
                <a:latin typeface="Arial"/>
              </a:rPr>
              <a:t>a qualunque tentativo di prescrittivismo</a:t>
            </a:r>
            <a:r>
              <a:rPr b="0" lang="it-IT" sz="3200" spc="-1" strike="noStrike">
                <a:solidFill>
                  <a:srgbClr val="ff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libertà del docente dunque si esplica …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ch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lla scelta delle strategie e delle metodologie più appropriate, la cui validità è testimoniata non dall’applicazione di qualsivoglia procedura, ma dal successo educativ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stualizzazi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sonalmente trovo positivo che il MIUR si muov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ch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e non solo) nella direzione della contestualizzazione, per abituare gli studenti a confrontarsi con situazioni real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rtroppo le situazioni reali proposte nelle simulazioni e nell’esame di stato sono così poco adeguate e lontane da quello che si intende per "problemi contestualizzati", da risultare ridico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sibile che non si riesca a produrre qualcosa di più significativo e meno irrealistico del problema di un ipotetico e poco realistico piano tariffario o di artigiano che deve realizzare un contenitore di scarpe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I.N. e MIU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ttembre 20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posta di una prova d’esame divisa in due part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na di quesiti obbligatori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’altra di quesiti in cui è consentita una scel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Il rischio è che, continuando a proporre situazioni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"brutte in maniera imbarazzante”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(l’espressione calzante è del prof. Paolo Francini) e palesemente poco realistiche si svilisca il messaggio positivo che è contenuto nelle Indicazioni Nazionali che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promuovono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la conoscenza del concetto di modello matematico, ma non si limitano ad ess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sa significa contestualizza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Contestualizzare gli apprendimenti non significa necessariamente proiettarli su uno scenario (improbabile ) di </a:t>
            </a:r>
            <a:r>
              <a:rPr b="0" i="1" lang="it-IT" sz="3200" spc="-1" strike="noStrike">
                <a:solidFill>
                  <a:srgbClr val="000000"/>
                </a:solidFill>
                <a:latin typeface="Arial"/>
              </a:rPr>
              <a:t>real life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: basta collocarli in una situazi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Emma Castelnuovo - Enriq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Una riflessione su quanto sta accadendo la possiamo trovare sul sito </a:t>
            </a:r>
            <a:r>
              <a:rPr b="0" i="1" lang="it-IT" sz="3200" spc="-1" strike="noStrike">
                <a:solidFill>
                  <a:srgbClr val="000000"/>
                </a:solidFill>
                <a:latin typeface="Arial"/>
              </a:rPr>
              <a:t>matmedia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nel quale l’ultima simulazione è stata riscritta in termini non contestualizzat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I problemi scritti in forma tradizionale contengono esattamente gli stessi concetti matematici esplicitati dai problemi della simulazion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ta di matematica non contiene niente che non sia presente nei problemi tradizionali; in essa in più ci solo elementi e storie inessenziali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’artigiano che disegna il profilo di una scatol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e ragazzi che giocano al videogioch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 tono confidenziale falsamente rassicurante: tutta una sceneggiata inutile e  mediocre che vorrebbe raffigurare una realtà  del tutto  improbabil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a sceneggiata  che vorremmo definire  ridicola ma che , per non essere offensivi, definiamo semplicemente pueril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È sciocca la contestualizzazione così intesa o forse non hanno capito niente di contestualizzazione quelli che così la intendon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5580000" y="5445000"/>
            <a:ext cx="3095640" cy="792360"/>
            <a:chOff x="5580000" y="5445000"/>
            <a:chExt cx="3095640" cy="792360"/>
          </a:xfrm>
        </p:grpSpPr>
        <p:sp>
          <p:nvSpPr>
            <p:cNvPr id="123" name=""/>
            <p:cNvSpPr/>
            <p:nvPr/>
          </p:nvSpPr>
          <p:spPr>
            <a:xfrm>
              <a:off x="7236000" y="5445000"/>
              <a:ext cx="1439640" cy="792360"/>
            </a:xfrm>
            <a:custGeom>
              <a:avLst/>
              <a:gdLst>
                <a:gd name="textAreaLeft" fmla="*/ 51120 w 1439640"/>
                <a:gd name="textAreaRight" fmla="*/ 1388520 w 1439640"/>
                <a:gd name="textAreaTop" fmla="*/ 51120 h 792360"/>
                <a:gd name="textAreaBottom" fmla="*/ 741240 h 792360"/>
              </a:gdLst>
              <a:ahLst/>
              <a:rect l="textAreaLeft" t="textAreaTop" r="textAreaRight" b="textAreaBottom"/>
              <a:pathLst>
                <a:path w="39237" h="21600">
                  <a:moveTo>
                    <a:pt x="0" y="0"/>
                  </a:moveTo>
                  <a:lnTo>
                    <a:pt x="39237" y="0"/>
                  </a:lnTo>
                  <a:lnTo>
                    <a:pt x="39237" y="21600"/>
                  </a:lnTo>
                  <a:lnTo>
                    <a:pt x="0" y="21600"/>
                  </a:lnTo>
                  <a:close/>
                </a:path>
                <a:path fill="lightenLess" w="39237" h="21600">
                  <a:moveTo>
                    <a:pt x="0" y="0"/>
                  </a:moveTo>
                  <a:lnTo>
                    <a:pt x="39237" y="0"/>
                  </a:lnTo>
                  <a:lnTo>
                    <a:pt x="37837" y="1400"/>
                  </a:lnTo>
                  <a:lnTo>
                    <a:pt x="1400" y="1400"/>
                  </a:lnTo>
                  <a:close/>
                </a:path>
                <a:path fill="darken" w="39237" h="21600">
                  <a:moveTo>
                    <a:pt x="39237" y="0"/>
                  </a:moveTo>
                  <a:lnTo>
                    <a:pt x="39237" y="21600"/>
                  </a:lnTo>
                  <a:lnTo>
                    <a:pt x="37837" y="20200"/>
                  </a:lnTo>
                  <a:lnTo>
                    <a:pt x="37837" y="1400"/>
                  </a:lnTo>
                  <a:close/>
                </a:path>
                <a:path fill="darkenLess" w="39237" h="21600">
                  <a:moveTo>
                    <a:pt x="39237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7837" y="20200"/>
                  </a:lnTo>
                  <a:close/>
                </a:path>
                <a:path fill="lighten" w="39237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Less" w="39237" h="21600">
                  <a:moveTo>
                    <a:pt x="14092" y="3985"/>
                  </a:moveTo>
                  <a:lnTo>
                    <a:pt x="21089" y="3985"/>
                  </a:lnTo>
                  <a:lnTo>
                    <a:pt x="25145" y="7484"/>
                  </a:lnTo>
                  <a:lnTo>
                    <a:pt x="25145" y="17615"/>
                  </a:lnTo>
                  <a:lnTo>
                    <a:pt x="14092" y="17615"/>
                  </a:lnTo>
                  <a:close/>
                </a:path>
                <a:path fill="darken" w="39237" h="21600">
                  <a:moveTo>
                    <a:pt x="21089" y="3985"/>
                  </a:moveTo>
                  <a:lnTo>
                    <a:pt x="25145" y="7484"/>
                  </a:lnTo>
                  <a:lnTo>
                    <a:pt x="21089" y="7484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80000" y="5589720"/>
              <a:ext cx="1513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INLANDI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042920" y="260280"/>
            <a:ext cx="6948720" cy="6167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Hans Freudenthal (matematico del secolo scorso) faceva riferimento a due dimensioni ugualmente importanti nello sviluppo del pensiero matematico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quella orizzontale, attenta alle applicazion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e quella verticale, più portata verso l’astrazi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611280" y="549000"/>
            <a:ext cx="82296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Godfrey Harold Hardy (1877- 194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2" descr=""/>
          <p:cNvPicPr/>
          <p:nvPr/>
        </p:nvPicPr>
        <p:blipFill>
          <a:blip r:embed="rId1"/>
          <a:stretch/>
        </p:blipFill>
        <p:spPr>
          <a:xfrm>
            <a:off x="539640" y="1628640"/>
            <a:ext cx="2011320" cy="23688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2916360" y="1268280"/>
            <a:ext cx="532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La matematica, come creazione dello spirito, deve essere bella, profonda duratura. Se la matematica è utile … non è importante, deve essere bella in sè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95280" y="4365720"/>
            <a:ext cx="806436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Non tutto deve avere uno scopo, non tutto deve essere utile, abbiamo anche bisogno di cose belle e profon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obbiamo quindi essere attenti a costruire ambienti di insegnamento fondati su un attento equilibrio delle due dimensioni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00000" y="404640"/>
            <a:ext cx="7489800" cy="6191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I.N. e MIU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Proposta incompatibile con le Indicazioni Nazionali che non prevedono una distinzione tra parti obbligatorie e parti non obbligator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disorientamento da parte dei docent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la poca conoscenza delle I.N. a livello di Ministero.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I.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'approfondimento degli aspetti tecnici, sebbene maggiore nel liceo scientifico che in altri licei, non perderà mai di vista l’obiettiv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lla comprensione in profondità degli aspetti concettuali della disciplin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mai completamente dimenticati nel nome di una presunta contestualizzazi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gli esami di stato dei precedenti anni, soprattutto dopo 2011, sono volutamente present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iti teorici che richiedono considerazioni - deduzioni - argomentazioni sui concetti che gli studenti dovrebbero avere ampiamente acquisiti  e fatti propr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quesiti contestualizzati che fanno riferimento anche a situazioni culturalmente rilevanti nella storia della matematica e che costituiscono interessanti punti di riflessione e di approfondimento nell'attività didattic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Il tutto in linea con quanto richiesto dalle I.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596360" y="5229360"/>
            <a:ext cx="1223640" cy="1008000"/>
          </a:xfrm>
          <a:custGeom>
            <a:avLst/>
            <a:gdLst>
              <a:gd name="textAreaLeft" fmla="*/ 65160 w 1223640"/>
              <a:gd name="textAreaRight" fmla="*/ 1158480 w 1223640"/>
              <a:gd name="textAreaTop" fmla="*/ 65160 h 1008000"/>
              <a:gd name="textAreaBottom" fmla="*/ 942840 h 1008000"/>
            </a:gdLst>
            <a:ahLst/>
            <a:rect l="textAreaLeft" t="textAreaTop" r="textAreaRight" b="textAreaBottom"/>
            <a:pathLst>
              <a:path w="26219" h="21600">
                <a:moveTo>
                  <a:pt x="0" y="0"/>
                </a:moveTo>
                <a:lnTo>
                  <a:pt x="26219" y="0"/>
                </a:lnTo>
                <a:lnTo>
                  <a:pt x="26219" y="21600"/>
                </a:lnTo>
                <a:lnTo>
                  <a:pt x="0" y="21600"/>
                </a:lnTo>
                <a:close/>
              </a:path>
              <a:path fill="lightenLess" w="26219" h="21600">
                <a:moveTo>
                  <a:pt x="0" y="0"/>
                </a:moveTo>
                <a:lnTo>
                  <a:pt x="26219" y="0"/>
                </a:lnTo>
                <a:lnTo>
                  <a:pt x="24819" y="1400"/>
                </a:lnTo>
                <a:lnTo>
                  <a:pt x="1400" y="1400"/>
                </a:lnTo>
                <a:close/>
              </a:path>
              <a:path fill="darken" w="26219" h="21600">
                <a:moveTo>
                  <a:pt x="26219" y="0"/>
                </a:moveTo>
                <a:lnTo>
                  <a:pt x="26219" y="21600"/>
                </a:lnTo>
                <a:lnTo>
                  <a:pt x="24819" y="20200"/>
                </a:lnTo>
                <a:lnTo>
                  <a:pt x="24819" y="1400"/>
                </a:lnTo>
                <a:close/>
              </a:path>
              <a:path fill="darkenLess" w="26219" h="21600">
                <a:moveTo>
                  <a:pt x="262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19" y="20200"/>
                </a:lnTo>
                <a:close/>
              </a:path>
              <a:path fill="lighten" w="262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26219" h="21600">
                <a:moveTo>
                  <a:pt x="7583" y="3985"/>
                </a:moveTo>
                <a:lnTo>
                  <a:pt x="14581" y="3985"/>
                </a:lnTo>
                <a:lnTo>
                  <a:pt x="18636" y="7484"/>
                </a:lnTo>
                <a:lnTo>
                  <a:pt x="18636" y="17615"/>
                </a:lnTo>
                <a:lnTo>
                  <a:pt x="7583" y="17615"/>
                </a:lnTo>
                <a:close/>
              </a:path>
              <a:path fill="darken" w="26219" h="21600">
                <a:moveTo>
                  <a:pt x="14581" y="3985"/>
                </a:moveTo>
                <a:lnTo>
                  <a:pt x="18636" y="7484"/>
                </a:lnTo>
                <a:lnTo>
                  <a:pt x="14581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mitando l’insegnamento ai soli problemi contestualizzati è lecito porsi le doman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li studenti prepareremo in futur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le sarà la loro preparazione in prospettiva del proseguimento negli studi universitari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sica simulazione 25 gennaio 201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1. Il metodo delle parabole di Thom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2. Uno strumento rinnov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e ne pensano gli studenti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al Corriere della ser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Se dovesse uscire fisica in seconda prova alla maturità io balzo», dice usando un linguaggio quasi aulico Laura B. su Twitte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«Raga, voglio piangere che simulazione di m... non ho mai fatto così schifo in fisica voglio morire davvero non voglio fare la maturità», è lo sfogo tutto d’un fiato (e senza giri di parole) di “disagiaTina” (</a:t>
            </a:r>
            <a:r>
              <a:rPr b="0" i="1" lang="it-IT" sz="2800" spc="-1" strike="noStrike">
                <a:solidFill>
                  <a:srgbClr val="000000"/>
                </a:solidFill>
                <a:latin typeface="Arial"/>
              </a:rPr>
              <a:t>nomen omen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«La simulazione di fisica mi ha tolto la voglia di vivere, che già era pari all’1%», calcola mereh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Il portale Skuola.net ha seguito gli sfoghi dei ragazzi sui social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Da Facebook a Twitter, passando per Instagram e Snapchat, oggi non si contavano i selfie dei ragazzi collassati sui fogli delle prove lasciate in bianc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e ne pensano i docenti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i sono stati anche alcuni prof che, prendendo le parti dei ragazzi, hanno annullato la simulazione a «causa dell’elevata difficoltà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n tutti la pensano così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«I due problemi erano abbordabili - dice il professor Stefano Accorsi, che insegna allo scientifico Archimede di San Giovanni in Persiceto (Bologna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5 febbraio 201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ima simulazione: prove contestualizz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ideo gioco “meteorit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ppamondo “prezioso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ò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Se un difetto avevano i due problemi, fa notare il professor Accorsi con un pizzico di malizia, è che sembravano saccheggiati dalle prove d’esame del liceo scientifico francese.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«Lo so perché io le consulto in continuazione, sia quelle del Bac che di altri Paesi: in Rete si trova di tutto!», d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ù perplesso il professor Domingo Paola del liceo Giordano Bruno di Albeng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«Io vedo tre grandi criticità nello scritto di Fisica - dice -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prima riguarda i ragazzi. Non si può immaginare una prova dello stesso livello di difficoltà di Matematica visto che il monte orario delle due materie è molto divers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68360" y="404640"/>
            <a:ext cx="8229600" cy="574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seconda riguarda noi docenti. E’ vero che siamo tutti abilitati a insegnare Matematica e Fisica ma la verità è che i laureati in Fisica sono pochissimi. Molti di noi, e mi ci metto anch’io, si sentono insufficienti di fronte alle difficoltà concettuali della materi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rzo: non esiste una tradizione di prove scritte che, per essere costruita, richiede del tempo e tante simulazioni.» 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A MIUR 15.12.2015, PROT. N. 1357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bblicazione del Quadro di Riferimento relativo alla seconda prova scritta dell'esame di Stato di Fisica per i Licei Scientific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  …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Il documento può essere, dunque, un valido orientamento per la preparazione degli studenti all'esame di Stato in quanto enuclea, per ciascun contenuto previsto dalle indicazioni nazionali per il V anno, le abilità e le competenze disciplinari attese e che costituiranno base di riferimento nell'elaborazione della prova d'es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0000"/>
                </a:solidFill>
                <a:latin typeface="Arial"/>
              </a:rPr>
              <a:t>Le I.N. vengono di fatto cancellate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451640" y="5734080"/>
            <a:ext cx="1150920" cy="719280"/>
          </a:xfrm>
          <a:custGeom>
            <a:avLst/>
            <a:gdLst>
              <a:gd name="textAreaLeft" fmla="*/ 46440 w 1150920"/>
              <a:gd name="textAreaRight" fmla="*/ 1104480 w 115092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34556" h="21600">
                <a:moveTo>
                  <a:pt x="11751" y="3985"/>
                </a:moveTo>
                <a:lnTo>
                  <a:pt x="18749" y="3985"/>
                </a:lnTo>
                <a:lnTo>
                  <a:pt x="22805" y="7484"/>
                </a:lnTo>
                <a:lnTo>
                  <a:pt x="22805" y="17615"/>
                </a:lnTo>
                <a:lnTo>
                  <a:pt x="11751" y="17615"/>
                </a:lnTo>
                <a:close/>
              </a:path>
              <a:path fill="darken" w="34556" h="21600">
                <a:moveTo>
                  <a:pt x="18749" y="3985"/>
                </a:moveTo>
                <a:lnTo>
                  <a:pt x="22805" y="7484"/>
                </a:lnTo>
                <a:lnTo>
                  <a:pt x="18749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508720" y="5877000"/>
            <a:ext cx="180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a MI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ame di stato 201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ematica, un sospiro di sollievo. Sì è così! La notizia che sarebbe stata ancora Matematica la materia della seconda prova scritta agli esami di Stato della sessione 2016, ha accomunato tutti, docenti e studenti, del Nord, del Centro, del Sud e delle Isole, in un profondo e liberatorio sospiro di solliev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matematica da bestia nera degli studenti a nemica preferita. Un sospiro tirato collettivamente dopo le simulazioni della prova di Fisica del 25 Gennai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Prove sgomentanti proposte da quegli stessi uffici del MIUR diretti dalla dott.ssa Carmela Palumbo che non finiscono per stupire per le norme travisate e/o inventate come i quadri di riferimento scritti su cinque colonne e i problemi che devono essere di tipo “contestualizzato” e farsesco per obbligo di legge, anche se non si sa di quale legg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ulazion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 esse sembra che il MIUR manifesti la volontà di assume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funzione di guida pedagogica per i licei scientifici del Pae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 dirigere la progettazione didattica dei docent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 scandirne i passi, fornire le prove di verifica intermedie, uguali per tut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In altre parole nel dett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I tempi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I mod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Cosa e come si deve insegn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In aperto contrasto con quanto affermano le I.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ff0000"/>
                </a:solidFill>
                <a:latin typeface="Arial"/>
              </a:rPr>
              <a:t>Mai si era arrivati a tanto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pettore Domenico Brun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l primo, due ragazzotti amanti dei videogiochi (Marco e Luca) hanno continuamente bisogno di aiuto per risolvere dei quesiti piuttosto banali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en subito voglia di abbandonarli al loro destino, unitamente al primo problem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gni simulazione “costa” alla scuola 6 ore di lezion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 hanno alcun diritto di esist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spicabi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costruzione di una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anc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i prove CONTESTUALIZZATE E NON a partire almeno dal secondo bienni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involgimento nella loro stesura di docenti esperti provenienti dal mondo della scuola e delle associazioni di matematic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ulazion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tunatamente, però, da come hanno reagito i docenti, c’è da aspettarsi che aumenteranno i licei che acquisiranno il testo della prova, lo valuteranno e decideranno quando proporlo agli studenti, eventualmente emendato degli errori che potrà contener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azione dei docen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 tutto però sembra procedere  senza particolari eccitazioni, come se l’iniziale sofferenza stesse lasciando il posto ad una generale e silenziosa accettazion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hi sono stati i commenti sulla prova di fisic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’ come se i docenti, stanchi e demotivati, avessero concordemente deciso di continuare a fare quello che sempre hanno fatto e di aspettare momenti migliori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spic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 gli esami di stato contengano problemi contestualizzati (ben contestualizzati) e non contestualizzat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to è fondamentale per ridare alla matematica una sua dignità: non solo la matematica in funzione di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are la divisione tra problemi e quesit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La Mathesis è un’associazione di insegnanti di Matematica e fisica e come tale responsabilmente deve dare voce ai docenti e sostenerli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it-IT" sz="3600" spc="-1" strike="noStrike">
                <a:solidFill>
                  <a:srgbClr val="000000"/>
                </a:solidFill>
                <a:latin typeface="Arial"/>
              </a:rPr>
              <a:t>Ed è quello che sta facendo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Penso, come vice presidente nazionale della Mathesis e presidente di una delle sue sezioni, quella di Rovigo, che questo impegno sia un obbligo mora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ed esprimo l’auspicio che la Mathesis </a:t>
            </a:r>
            <a:r>
              <a:rPr b="1" lang="it-IT" sz="3600" spc="-1" strike="noStrike">
                <a:solidFill>
                  <a:srgbClr val="000000"/>
                </a:solidFill>
                <a:latin typeface="Arial"/>
              </a:rPr>
              <a:t>non sia più sola</a:t>
            </a: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 a combattere contro queste iniziative MIUR che turbano, scoraggiano, disuniscono e più che migliorare sembrano peggiorare scuola, norme, didattica, professionalità docente,…. e togliere bellezza alla matematica, alla fisica e al loro insegnamento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figura"/>
          <p:cNvPicPr/>
          <p:nvPr/>
        </p:nvPicPr>
        <p:blipFill>
          <a:blip r:embed="rId2"/>
          <a:stretch/>
        </p:blipFill>
        <p:spPr>
          <a:xfrm>
            <a:off x="0" y="260280"/>
            <a:ext cx="9144000" cy="603576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5219640" y="333360"/>
            <a:ext cx="345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 simboli + e – in un ambiente contestualizzato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50920" y="260280"/>
            <a:ext cx="403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 per sorridere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3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l secondo problema, occorrono ben 13 righe di inutili melensaggini per porre        l‘ "onesto" quesito ( già proposto nell’esame di maturità del 1972!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 determinare il cono di superficie totale minima circoscritto ad una sfera di raggio 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azie per l’attenzi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39528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ccato che nella realtà a nessuno provvisto del minimo buon senso verrebbe in mente di racchiudere un mappamondo in un espositore di forma conica: si opterebbe certamente per il cubo circoscritto o, meglio ancora, per il cilindro equilatero circoscritto, che sarebbe poi il più economico, giacché la sua superficie totale è i 3/4 di quella del cono di cui sopr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rigore il più economico in assoluto sarebbe l'icosaedro regolare circoscritto, ma un espositore di tale forma lo si realizza con difficoltà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2-20T11:43:43Z</dcterms:created>
  <dc:creator>Elisabetta</dc:creator>
  <dc:description/>
  <dc:language>en-US</dc:language>
  <cp:lastModifiedBy>Elisabetta</cp:lastModifiedBy>
  <dcterms:modified xsi:type="dcterms:W3CDTF">2016-02-24T11:05:29Z</dcterms:modified>
  <cp:revision>72</cp:revision>
  <dc:subject/>
  <dc:title>“Insegnare oggi la matematica: cosa, come e perché”</dc:title>
</cp:coreProperties>
</file>